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369-E1E1-4D13-8F66-3A140B47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914-3EAA-49EC-880A-5BE0EDE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D85-926C-433F-827D-AA0D3D3D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0D1-724D-4696-AF36-E957AAD1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D1D-0E81-4718-A8F2-56C8D307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69A-CAA8-4361-BB40-180C37C7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3BE-BCCA-4196-BD44-CF45342E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09B-AF27-4F3D-BAA4-317AF90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A24-894B-4516-A9FD-16D7081D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12F-9E5E-41E5-8694-50F43408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7B3-6399-4AF4-8FCE-9A68B0C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317-86A6-4E55-ABC2-6211C58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F86-1ADA-4EF5-8ABE-A8CD81BD0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8/8d/Emperor_pengui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6/68/Arctocephalus_pusillus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upload.wikimedia.org/wikipedia/commons/d/d5/Arctic_Hare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3276720" cy="441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ile:Emperor pengu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000" y="4724280"/>
            <a:ext cx="2994120" cy="438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Arctocephalus pusillu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177840"/>
            <a:ext cx="3405240" cy="4165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Arctic Har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49600" y="4599000"/>
            <a:ext cx="30798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92440" y="76320"/>
            <a:ext cx="311328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000" y="4800600"/>
            <a:ext cx="3298680" cy="422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62200" y="4724280"/>
            <a:ext cx="31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5400" y="4648320"/>
            <a:ext cx="3257280" cy="4381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200" y="0"/>
            <a:ext cx="3146400" cy="449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3276360" cy="4419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505320" y="4724280"/>
            <a:ext cx="3130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22790</cp:lastModifiedBy>
  <dcterms:modified xsi:type="dcterms:W3CDTF">2008-12-18T23:43:58Z</dcterms:modified>
  <cp:revision>9</cp:revision>
  <dc:subject/>
  <dc:title>Slide 1</dc:title>
</cp:coreProperties>
</file>